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8A7-52F0-4AA7-8945-FB5BCC62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1E1-CA32-410D-B753-C20E95E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FEF1-B395-4A70-BDB5-5D230F04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482C2-5780-4449-BA01-1BE0D3DF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E5EB-D67F-4F93-86DD-4B1A632E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9C77-9C1B-476D-A5B2-5E570A7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EB000-010B-407E-9ECA-2C02EEB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32993-D7A8-4B6E-913E-73A3ABE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BB3C1-597B-4825-BA00-430EFFBC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5868A-E005-4792-AC99-F19CD0AF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80D1-0551-4D9D-9046-42C0FCA0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7976-8C9C-4457-A395-87604E6B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50F-2267-460E-8886-D9086885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21553-408B-420D-8B78-0349A07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DB208-FCBE-433D-B906-F37250E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702A6-85A1-4F36-A472-397191D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68E69-0416-433C-9022-8F641EB5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9A765-126B-4F9A-BE59-124A140B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85D35-E068-438C-A952-9144B52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69133-3E10-4BB2-90C1-DBBF1F22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C6C9B-477B-458E-8CC7-2B89081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50B23-6CAE-456A-B215-35C7B59C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3604D-EB68-4859-8645-BA68E1FE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03D-740C-4AEC-887C-C7469580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D7CDA-EC65-460A-9845-F39A61C0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9FB7-3833-421C-BA47-3A71BCE5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8F356-40FF-4B57-B7B3-31F53703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3A85A-6F1A-4FC5-B603-E137D141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FFE09-1926-4642-B830-70A1C2E9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5E9E0-1342-4B73-9D7E-6A29E933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E30D4-8240-4E3E-89ED-DD37E0F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0F2DE-03B7-4C9E-B566-3780BE1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73AAF-1D5B-459A-8704-7755F76B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6848A-BD33-488A-807B-9023AAE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1BA-545E-4555-A60D-0F0F9A1D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C0249-3AC0-4D21-95C2-A733139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3C38E-746B-49BF-B1B8-580C604F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DA4A5-046C-4B4D-8E02-D440C64D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3508-25A3-4FF3-BC42-7405BA67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AC45F-979B-43DA-9C03-38AECA8A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D6D84-A804-4933-9507-AF6D692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48743-01A1-4A34-98D3-097CE654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424D7-8FD9-403F-8D8B-1625F70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EFF4-B79A-4FE3-8AB4-ED3AB88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367FF-AE94-4236-BD56-6CB9AD0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81C-7014-4A27-872A-0D2AF5B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A98B1-DDE3-4174-938B-B22848E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DABAC-C0ED-4F31-A650-8312DC7B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AB36D-1B63-4BA0-B4A1-CA78D24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A0534-DF2C-4F93-935F-3115A503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0C007-3D89-4C28-B906-C8F51B5E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9166C-1898-444A-A52E-3D04C94C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B89B6-D6A3-438F-9E82-EAC39BB6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ACBA7-0E82-4FCE-9D74-D73AEF1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11EC1-B665-412F-ADE4-43394A8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F6B2B-DB2F-4CEB-A4CF-B49810B2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A1B0-A1A3-4C78-B2B6-FBB5C1D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238FA-3BEC-468B-AEB4-96A02DBA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FDDD0-CDDC-4B49-A5F0-BF88219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E327B-201B-447F-85FB-1E77353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EE336-42EF-4B20-A52D-489C7E1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5A4F0-0631-4FC3-8523-D88BAC0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53EB2-1FC9-43A0-9B36-DC096E6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B054B-C742-4BA8-929D-6D558F03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586DB-9C01-4B9A-9B93-090C3ACD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89459-C619-4251-8F38-109E999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CD0655-C611-4A69-A9A8-B8EA4006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D8D2-2C33-4675-BB7D-EBD0495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909F5-20F0-4EDC-9266-20209CF6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3F5B9-6256-4D0E-A777-AC0F1262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F888B-B92B-4E7F-938C-D6184E3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1FF03-5EA2-438A-BB1E-9053959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B5F63-8A61-42D8-A3E0-9B7371E4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5C38E-1BEE-4C2D-BEB5-3FDE83C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36924-AB43-489B-9FE1-683264F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72598-F79E-4CC1-A5A1-B4A93281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42FD8-FFF3-4A2B-AD0C-69B48D05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29197-40D8-4D8C-ACB8-3BEF6707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5B0-CC79-4755-99A3-2E226CF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8EF993-D9A1-437B-92E4-620ED1E7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2AEE9-4E93-4E80-B6C0-FAA5CD9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421AD-8D50-4D85-AA32-C66D4632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E2EFE-C759-41BF-BE77-B8359476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01832-6FAA-4566-89BB-997672C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E45E4-96D3-42C4-A62F-F1629CF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3F0FA-60F3-4B4D-8366-B19FC74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11DD2-81DE-42EE-B49B-A7281042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F24D2-6DFA-493A-B858-22A28742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EAC7B-1E4F-456B-850A-13FD11D2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4A1B-0FB3-455D-A3D1-2D893F55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07C87-957B-4335-8F26-FB213EF1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5906F-E8B2-4107-B25D-369B7098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A4FE9-F765-405E-A658-19572854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2C86E-A4C8-49D2-94C4-F2C9D95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0F495-2706-4DA7-8D94-566969CA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44802-D3ED-4283-9FFA-7E33B41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4E8FD-4DFC-4B98-92DC-C1DDC75C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86BA3-E696-4AE4-9D24-85238A8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4793B-EF3C-4403-B925-0005D28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6AA2A-09CC-4609-BA1C-91CF303A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1985-1EE5-49FC-9E44-B270F73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6DE08B-4266-4AC0-AA9A-9B16A7AD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4C246-DBA7-41D4-96C7-1821423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8FA24-39AA-4120-8B22-476DA83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474DB-E135-43A2-915A-0096F551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E295C-07D3-4FCF-805D-6A09A19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336EF2-33D3-4D49-ABD6-B70E150E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E07E0-C8A6-4294-91A2-79A4F052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551E1-D37E-49C7-A8EF-E593C4C5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3FA18-C01C-4366-96AF-70ADB1D5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86843-E309-4352-B0FC-0EAA2CA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234A-684C-49E4-BD30-29FBFD19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3D3-A9E4-4A73-96F9-D44AA99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AF090-2F3E-4555-AC5C-2F4843F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2C883-115A-4A7C-8844-5423F7D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282EE-E68F-4AC6-B50A-DEE27A4B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5C0EDE-70AB-4D2B-8C55-9354DD9B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A1FA5-042A-4D3C-9B91-10BE516C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E8BE1-0CD2-4FA5-8AB4-B7527312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4A35A-DCBD-4A84-8A05-72CF09F6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BE292-6E11-4AB4-A1C4-F960BA7D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F143C-C017-4463-9304-CFFA9EB5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077E1-50AC-48CC-AEB5-5542B860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DF1-EED7-4612-9F07-857808D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3F2A07-B09C-4065-AB5D-34905B52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B6D2C-B231-4000-A9BA-7454758F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60DE1A-963B-46F6-977C-ABC72FD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F5E5E-C0DE-4CCA-AB58-F6ED39F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D78F4-F5D7-42D9-87F9-862430F9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7B6FC-E77D-453D-8D56-12CCA53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16189-72D7-41C6-8773-7A990659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C1565-F7D7-4002-BCB8-204D6025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60736-86F9-4C4B-834D-42903F98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6575B-0EF8-4AC9-A32E-4E1FB1A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86D5-385F-4F89-B34D-53E6484A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197A8-F9AC-4882-A09E-CC86AD9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D5F2C-D177-4248-8643-5728681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056B7-2E44-4A7A-9450-B047D17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70797A-1CAE-4027-A9DB-972115D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2C679-F2FE-4324-B252-09774B6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5FF1C7-401E-4C84-B7A1-A53E0B3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F22CE2-19BA-4B7A-A79B-0AE93AE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45FC6-AAF2-4C80-9C1C-3008F8DF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25611-6858-4D23-830B-EA1D4826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EBBFE-C16F-459E-936A-E71151B7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8B65-926D-412A-AD04-06E71F11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EB7CC-271C-4058-878B-E5DA89E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D35EAA-30F2-46EF-9D05-5DDFDD6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9B701-7DD9-4F02-82B7-418901EA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82761-7B9F-4822-9078-38354FF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1B4B4-F2A1-47C0-AE3B-F0F5B08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DF375-BBC3-4AC9-9117-C192416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3DB863-F07D-4740-930B-5D0647B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9EFBD-BFE6-4774-AAF6-E9F84642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1A40C-DD0B-46D3-B1E2-40C8934A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16B05-5D64-4B9D-97BE-BC449312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040-F434-46DC-8F12-47AFAF5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485DB-F5E3-4BC4-8AD6-85E1D51A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35326-1A1B-465C-920D-AC96D6A2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E64379-27E3-4790-B211-E85B5535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72BEF-EBCE-47D7-9E41-2FF1839D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E849B-530F-485D-9580-E541CAB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1611F-D8D1-43B2-9865-F3A87812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BF55A-A239-4341-BC40-38A293FB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83E20C-4A5F-4668-BBB2-4A99B6C4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05E9AA-5923-4807-8F83-E5B2AE2C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5E6D3-CC14-4CB4-819F-611E399A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D04D-BB38-40EB-9CD3-D4769140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AF8F6-FBCD-4337-B250-C0CCEFA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8FEBD5-DE7E-40D7-91C0-8E21BDA7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D12A1C-D7BF-487A-B994-A8EE1F57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5FFB3-3AB0-4512-B6ED-055A1F6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04844-95A4-4DBB-A9B4-76A6BABD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68BAAD-939F-4931-A107-C0E3BD9C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D21485-588B-4012-A5B5-E4C4DCB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426A0A-5146-4793-AF28-44256A8A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CCA6A6-2E7C-4C45-87AF-8BC1D9D4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4EC17B-97CA-4EFF-A16F-0FEE26D3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2B6A-39B4-453A-864F-2CFFF3A8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DEB058-070E-4EFC-BACA-D2C924B7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55FF39-F12C-42E5-AB00-8C71BA0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AD55D7-A4D8-4DAF-978A-B3268CB9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1FE400-D701-4E5A-BE3C-C34D526A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2A28EA-DD08-4FE1-A056-5AFD5F5D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6AF342-E635-4815-8B91-824B4348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74B43-4EDE-4C05-A1B2-0618C3EA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24C16-01D6-4ACE-841E-58AC077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703809-8AFD-4354-B5E7-C9825FD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F64145-D241-419B-9021-58A50B80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A33FC-199D-4553-A373-CAF6F3F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58BB9-9F6C-4137-9365-24A4619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CB4084-50A9-45F4-8EC2-E51DDED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FA467-CE41-4F0B-B96E-2DAFC2A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7E998-44CE-4976-9931-F364379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37CFC-77C2-4EC7-9A17-6F312B26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ACE71-5359-446B-9FF8-8B448D7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60526-1593-4FA4-9FCD-52A2E864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E72C-180D-4359-B954-174A8C2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C123-4C57-4331-933D-C5D465D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045-B0D4-4918-91D7-1AE06BD9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E898-5226-419D-BD98-8E9FB7E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3663-EB8B-4045-A2DF-40840B71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2544-CE4E-4EB3-9DDC-A6785A8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E1FD-8392-4F75-BBFD-8439A347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0599-5A90-4CE5-A09F-77EE796A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846E-E527-48B9-820A-1A34108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3120-A6C8-4C61-A161-11BA9E1B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B9F6-8C0A-4D41-A4B2-88DDE06A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72A2B-F60A-4616-8131-0255EC90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200F-FDBF-486E-A728-19D07F2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538-A887-45ED-8209-5FC245E9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83BA1-21B7-42F0-974C-B9F607C7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0E9C-2B16-4041-A933-B5CCFD3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D40E-D426-4AFB-A2E5-9A3641B6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1021-7353-4693-A7F6-003B751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25512-824D-4C05-A1A9-9183E12D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DB19-D947-4106-A2D6-FF8F6F5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43D15-BFCB-4A50-B5F2-AD5915E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84CC-B824-41CF-946D-B866ACA8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195D-1E49-4FA4-82FE-E5E47DD0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BE92-012B-4AB3-86D4-153D5A06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359-BC5A-4771-871B-E9DA81B7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01577-FB61-44D6-9AFB-5287684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DBB7-4DB3-4E3D-A3BF-4D1450F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5D6C-C5EC-4F4C-8316-5F110BD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126B-727C-4E57-9A46-9F7E6D08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6A302-D092-42FE-AB29-5A6DDD7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7532-601C-43D6-A658-996D434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A50F-D451-47E4-9CAE-CC29AF2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235E7-051E-48F3-85AA-4C93DF2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B8D4-DFDF-4FD9-A50C-8F1E8BF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39904-E14C-46FB-9570-2570BB00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E43-A37A-4935-93EC-9CBA4603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623B-DC5D-4D00-BDDF-AEB4142F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C3D0-4725-4B90-96F5-A3649C8B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A546-7975-4B5B-94CB-A9579E9B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518B0-1DC5-423C-B269-107A3F14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22BEF-AD67-4A35-9328-08CD460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CD1A-BD1A-4142-9061-8575D4E8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B407-7FE9-4783-909A-3D22737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B815F-709E-4B0E-969D-7533163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081E0-70DE-4452-BCE1-F0D33C4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C646-0E45-430B-8045-D954BE0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9C1-BD12-44C1-8F5E-D4E4B1E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C2E7B-4161-46ED-BC16-06C84B7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D845-FADD-4AA2-8322-88AC8C3D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EC12-3A28-4EAA-966E-F9A3C770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2ED7-597D-4D94-A818-7F792900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0C046-D9A9-41CB-ABAE-ABEE3236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D70A5-FA14-42DD-AB43-76E792C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4A164-33C8-4068-AA41-DB3D052F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80C0D-81C1-426B-9570-057513D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20B0-D705-4535-A8C4-8E50A4E8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CC18-09EC-472B-B728-BD1E10CD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A9E-F343-4150-B0EF-5790802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8057-6BFB-4A48-ABAA-8D18C44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FA0F9-5EC6-468F-AB19-E86CD7BE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5BA9-25CE-4160-9045-07F2481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8EBA0-6D0C-4524-B10D-212243F5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A111-85C3-43AF-A8C8-C23D947A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9F7F-F9DD-449D-AD2B-BC4DFB2E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814EC-E544-4269-AB4D-7CCE198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8E66-A9F8-4178-93EF-AC11AB7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34073-5910-4271-AF8D-3BB0678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66CFB-34BF-4D05-BB10-A98D8CDB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D61-4C2D-48F9-AE14-F2CC6C9D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32EF-A72B-4F57-8E56-D7181865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D3851-CF00-408D-AEE3-0FD0FDA5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7D940-FEF1-4B0B-A41E-B03C3EF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2F7D7-23AC-42F0-BE13-4B02503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DA6A2-AF4C-48AB-B412-D9A0164D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CE28-805A-48A1-9983-C7CD507D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B9414-8130-4DA7-84D0-98BA9445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0A6E2-2E89-4923-81F3-6EBE27BC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D877D-2BA8-49D0-8EFC-6E1DD56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00F99-AD2E-472D-8C7E-63052708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36E2-455E-4488-8D23-32F94C94D7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20B9-534E-47BA-9019-67E302A6D0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5E2D-7884-4F65-A697-3E2C61C22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A49-54FB-4F6B-BD50-39AEDB1DA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7EB9-841E-40EA-9DFF-3669FEF2A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3EF7-F15A-4329-AB7D-975A772777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932-7343-4246-90CA-102F8B488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D6E-621E-4416-816B-DC1B2D85A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70C2-8430-4A10-A3C8-088E5652F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271-A36A-440C-AEBB-DFF62B367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6A3-9C8E-471B-AE56-933B5940D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4D0-E7EE-4005-8B73-AB7FCAA21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F39A-EEEC-43E9-BFD3-178D4F5AE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3C9-3A0B-4766-A4F8-AEA14BEB84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3323-5A6A-4878-B9AB-6BAE3470B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68C2-AB64-4FEB-80C7-68E0C3E52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0ED8-000D-439B-9CCE-98A4D741B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C03-568D-411C-86D2-6FF174010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690-36F1-452E-949B-226B316CD0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AA47-C61E-476B-81B6-5BEA6CDDC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DDBA-8C2F-4D06-BDF2-C4A959B569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338D-C432-499A-B418-56B6F12209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6EA-E883-4302-9FBD-5573D81668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F2D1-C9AE-4123-9977-D322D06A3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C79C-B88E-4ED3-81CE-097A1B3C59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86A1-7C16-4553-863A-05C811954A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283-A624-4EE7-BEEC-39C57721F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C52-C922-4D4D-A891-3AC517E289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E96-F565-4FF1-ACD8-76C5FDFB7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0FDC-7CF3-4E46-8F77-4AF4E3265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0EC6-5AE1-45EA-8F43-AB1703475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A3BD-EC8D-441E-8D46-C1A3302D2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F050-DDCC-456A-96BF-403F64CA4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ED7-BF07-494A-8E62-89F485FA4C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BCD-7F95-4DCB-8C64-46EDBF65D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73C-26A3-47B9-A957-8B830883D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9A05-2BD1-44E3-85B3-D6520F2FD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1D14-D705-4516-BA79-7FDEFA62F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D190-C6B1-421B-AAC6-71F550D88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1F7-9D3C-40A5-B67C-D3CEA30DDD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E2E-39B6-4A73-A38C-18D1CAA55F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EC7-7014-4E32-81C9-94D906BB32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417600" y="2347920"/>
            <a:ext cx="85420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62080" y="923760"/>
            <a:ext cx="5665680" cy="79092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262080" y="1882800"/>
            <a:ext cx="8456400" cy="41720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539640" y="227664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539640" y="314172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539640" y="4869000"/>
            <a:ext cx="3589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1204920" y="2162160"/>
            <a:ext cx="6734160" cy="2533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2556000" y="2589120"/>
            <a:ext cx="1511280" cy="293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203640" y="301608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3059280" y="3457440"/>
            <a:ext cx="863280" cy="2937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916360" y="4282920"/>
            <a:ext cx="863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062000" y="1690560"/>
            <a:ext cx="7020000" cy="34768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3419640" y="308772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3"/>
          <a:stretch/>
        </p:blipFill>
        <p:spPr>
          <a:xfrm>
            <a:off x="2700360" y="351936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4"/>
          <a:stretch/>
        </p:blipFill>
        <p:spPr>
          <a:xfrm>
            <a:off x="2340000" y="3933720"/>
            <a:ext cx="865080" cy="2937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5"/>
          <a:stretch/>
        </p:blipFill>
        <p:spPr>
          <a:xfrm>
            <a:off x="2124000" y="4365720"/>
            <a:ext cx="865440" cy="2937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6"/>
          <a:stretch/>
        </p:blipFill>
        <p:spPr>
          <a:xfrm>
            <a:off x="3635280" y="4797360"/>
            <a:ext cx="115272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46240" y="1270080"/>
            <a:ext cx="8208720" cy="212400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" descr=""/>
          <p:cNvPicPr/>
          <p:nvPr/>
        </p:nvPicPr>
        <p:blipFill>
          <a:blip r:embed="rId2"/>
          <a:stretch/>
        </p:blipFill>
        <p:spPr>
          <a:xfrm>
            <a:off x="246240" y="3476520"/>
            <a:ext cx="5362560" cy="2505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684360" y="212400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755640" y="296856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3492360" y="3924360"/>
            <a:ext cx="1800360" cy="2937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1476360" y="4788000"/>
            <a:ext cx="2590920" cy="2937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7"/>
          <a:stretch/>
        </p:blipFill>
        <p:spPr>
          <a:xfrm>
            <a:off x="1116000" y="5618160"/>
            <a:ext cx="576360" cy="2937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8"/>
          <a:stretch/>
        </p:blipFill>
        <p:spPr>
          <a:xfrm>
            <a:off x="3348000" y="5632560"/>
            <a:ext cx="172872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6:1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